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6.png" ContentType="image/png"/>
  <Override PartName="/ppt/media/image7.pct" ContentType="image/x-pict"/>
  <Override PartName="/ppt/media/image10.jpeg" ContentType="image/jpeg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E7F-3AF9-42D7-A18E-D16E968D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882-964C-441F-88D1-6840C2E9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977-62F4-4B11-AF30-465F2A45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D25-0F0F-42FF-859D-09C83E5B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C50-6B87-4CC9-B98F-995984CF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0FE-A3DA-431C-A14C-D64205A3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F09-0B2C-4955-93C3-6DBB7542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504-2F7D-415A-B959-9F86333C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33E-9145-41E3-933F-DCD2C28B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FDE-3B38-4DAF-BAC6-DEF7C89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302-F391-4002-9B10-4FBF95B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BD9-0782-4F60-94C7-42FB52D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253E-539A-44CB-9CB9-AE0A0C987362}" type="slidenum">
              <a:rPr b="0" lang="en-US" sz="1400" spc="-1" strike="noStrike">
                <a:solidFill>
                  <a:srgbClr val="ffff00"/>
                </a:solidFill>
                <a:latin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slide" Target="slide4.xml"/><Relationship Id="rId27" Type="http://schemas.openxmlformats.org/officeDocument/2006/relationships/slide" Target="slide21.xml"/><Relationship Id="rId28" Type="http://schemas.openxmlformats.org/officeDocument/2006/relationships/slide" Target="slide8.xml"/><Relationship Id="rId29" Type="http://schemas.openxmlformats.org/officeDocument/2006/relationships/slide" Target="slide10.xml"/><Relationship Id="rId30" Type="http://schemas.openxmlformats.org/officeDocument/2006/relationships/slide" Target="slide24.xml"/><Relationship Id="rId31" Type="http://schemas.openxmlformats.org/officeDocument/2006/relationships/slide" Target="slide18.xml"/><Relationship Id="rId32" Type="http://schemas.openxmlformats.org/officeDocument/2006/relationships/slide" Target="slide6.xml"/><Relationship Id="rId33" Type="http://schemas.openxmlformats.org/officeDocument/2006/relationships/slide" Target="slide16.xml"/><Relationship Id="rId34" Type="http://schemas.openxmlformats.org/officeDocument/2006/relationships/slide" Target="slide28.xml"/><Relationship Id="rId35" Type="http://schemas.openxmlformats.org/officeDocument/2006/relationships/slide" Target="slide14.xml"/><Relationship Id="rId36" Type="http://schemas.openxmlformats.org/officeDocument/2006/relationships/slide" Target="slide13.xml"/><Relationship Id="rId37" Type="http://schemas.openxmlformats.org/officeDocument/2006/relationships/slide" Target="slide25.xml"/><Relationship Id="rId38" Type="http://schemas.openxmlformats.org/officeDocument/2006/relationships/slide" Target="slide12.xml"/><Relationship Id="rId39" Type="http://schemas.openxmlformats.org/officeDocument/2006/relationships/slide" Target="slide9.xml"/><Relationship Id="rId40" Type="http://schemas.openxmlformats.org/officeDocument/2006/relationships/slide" Target="slide22.xml"/><Relationship Id="rId41" Type="http://schemas.openxmlformats.org/officeDocument/2006/relationships/slide" Target="slide5.xml"/><Relationship Id="rId42" Type="http://schemas.openxmlformats.org/officeDocument/2006/relationships/slide" Target="slide23.xml"/><Relationship Id="rId43" Type="http://schemas.openxmlformats.org/officeDocument/2006/relationships/slide" Target="slide19.xml"/><Relationship Id="rId44" Type="http://schemas.openxmlformats.org/officeDocument/2006/relationships/slide" Target="slide7.xml"/><Relationship Id="rId45" Type="http://schemas.openxmlformats.org/officeDocument/2006/relationships/slide" Target="slide27.xml"/><Relationship Id="rId46" Type="http://schemas.openxmlformats.org/officeDocument/2006/relationships/slide" Target="slide15.xml"/><Relationship Id="rId47" Type="http://schemas.openxmlformats.org/officeDocument/2006/relationships/slide" Target="slide26.xml"/><Relationship Id="rId48" Type="http://schemas.openxmlformats.org/officeDocument/2006/relationships/slide" Target="slide11.xml"/><Relationship Id="rId49" Type="http://schemas.openxmlformats.org/officeDocument/2006/relationships/slide" Target="slide20.xml"/><Relationship Id="rId50" Type="http://schemas.openxmlformats.org/officeDocument/2006/relationships/slide" Target="slide17.xml"/><Relationship Id="rId51" Type="http://schemas.openxmlformats.org/officeDocument/2006/relationships/image" Target="../media/image2.png"/><Relationship Id="rId5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9.xml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9880" y="8380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d121"/>
                    </a:gs>
                  </a:gsLst>
                  <a:lin ang="5400000"/>
                </a:gradFill>
                <a:latin typeface="Impact"/>
              </a:rPr>
              <a:t>AP European Hi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d12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8001000" cy="24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14800" y="605736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APEH: Review Quiz #4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0160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Pope Paul IV called to order this 16th century church council which reaffirmed traditional Catholic doctrine and sought to eradicate Church abuse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75248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At the First Vatican Council, he established the doctrine of papal infallibilit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2767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16th century pope issued the papal bull for Martin Luther's excommunica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86080" y="1066680"/>
            <a:ext cx="617220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harcoal"/>
              </a:rPr>
              <a:t>Daily Doubl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harcoal"/>
              <a:ea typeface="Charco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Pope John XXIII was influential in calling to order this 20th century church council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leader of the Nazis introduced the anti-Semitic Nuremberg Laws in 1935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25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 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9652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Political dissidents of this Georgian-born Soviet dictator were often sent to the Gulag, or Soviet penal camp system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17366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Spanish artist Pablo Picasso fled Spain to avoid living under the rule of this fascist generalissimo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 bloody nature of his political downfall was unusual in the velvet revolutions of 1989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6765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360"/>
            <a:ext cx="6477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Serbian leader undertook a policy of "ethnic cleansing" against Yugoslav Bosnian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676520"/>
            <a:ext cx="35812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Along with his handlebar mustache, he came to power in the Revolutions of 1848 in Franc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0" t="0" r="9239" b="0"/>
          <a:stretch/>
        </p:blipFill>
        <p:spPr>
          <a:xfrm>
            <a:off x="5200560" y="1066680"/>
            <a:ext cx="2725920" cy="411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estants do not forget to 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lways phrase your question in the form of an answer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s on your buzzers it is time to play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680" y="4675320"/>
            <a:ext cx="8001000" cy="241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405480"/>
            <a:ext cx="452520" cy="4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851120"/>
            <a:ext cx="33526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Italian nationalist was known as "The Brain" of Italian unifica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133720" y="1066680"/>
            <a:ext cx="3097080" cy="400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2041560"/>
            <a:ext cx="3352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Amidst the Dreyfus Affair, he published "J'Accuse."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2762280" cy="3657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1965240"/>
            <a:ext cx="2895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From the House of Savoy, he became unified Italy's first king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203560" y="1295280"/>
            <a:ext cx="2825640" cy="3505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0160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219320"/>
            <a:ext cx="43434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chief minister to Nicholas II sought to modernize the Russian military and increase industrial productivity in the years from 1905 to 1911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8348" t="0" r="9597" b="3329"/>
          <a:stretch/>
        </p:blipFill>
        <p:spPr>
          <a:xfrm>
            <a:off x="1522440" y="1143000"/>
            <a:ext cx="2635200" cy="3510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idea of John Calvin's taught that God elected the saved prior to birth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17366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Often carried out in 19th century Russia, these were attacks on Jewish settlement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1929 agreement between Mussolini and the papacy established Vatican City as an independent state inside the city of Rom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leader of the Jewish Enlightenment was an advocate of religious tolera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25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 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0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20th century movement sought to reconcile doctrinal differences and establish better relations among different religion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22860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the DEFENESTRATION OF PRAGU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1337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88620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13372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21337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73915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21337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21337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56386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388620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388620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6"/>
          <a:stretch/>
        </p:blipFill>
        <p:spPr>
          <a:xfrm>
            <a:off x="388620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7"/>
          <a:stretch/>
        </p:blipFill>
        <p:spPr>
          <a:xfrm>
            <a:off x="388620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8"/>
          <a:stretch/>
        </p:blipFill>
        <p:spPr>
          <a:xfrm>
            <a:off x="56386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9"/>
          <a:stretch/>
        </p:blipFill>
        <p:spPr>
          <a:xfrm>
            <a:off x="56386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0"/>
          <a:stretch/>
        </p:blipFill>
        <p:spPr>
          <a:xfrm>
            <a:off x="73915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1"/>
          <a:stretch/>
        </p:blipFill>
        <p:spPr>
          <a:xfrm>
            <a:off x="73915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2"/>
          <a:stretch/>
        </p:blipFill>
        <p:spPr>
          <a:xfrm>
            <a:off x="56386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3"/>
          <a:stretch/>
        </p:blipFill>
        <p:spPr>
          <a:xfrm>
            <a:off x="73915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4"/>
          <a:stretch/>
        </p:blipFill>
        <p:spPr>
          <a:xfrm>
            <a:off x="56386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5"/>
          <a:stretch/>
        </p:blipFill>
        <p:spPr>
          <a:xfrm>
            <a:off x="7391520" y="556272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irty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Years’ War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pe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uthless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ictator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storic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acial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air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ligion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tpourri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64580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65530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Final Jeopardy</a:t>
            </a:r>
            <a:endParaRPr b="0" lang="en-US" sz="1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1"/>
          <a:stretch/>
        </p:blipFill>
        <p:spPr>
          <a:xfrm>
            <a:off x="-177840" y="6680160"/>
            <a:ext cx="35568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6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2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8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4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6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2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8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4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6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2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8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6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2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4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6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8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4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GUSTAVUS ADOLPHU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CALVIN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4382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ALBRECHT VON WALLENSTE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5146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FREDERICK OF THE PALATINAT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is MR. POP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the COUNCIL OF TRENT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2743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PIUS IX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LEO X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5146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the SECOND VATICAN COUNCIL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ADOLF HITLER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 Thirty Years' War began with this 1618 event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305920" y="1066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29600" y="762120"/>
            <a:ext cx="60948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4757760" y="29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JOSEF STAL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25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 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FRANCISCO FRANCO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NICOLEAU CEAUSESCU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thless Dictato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SLOBODAN MILOSEVIC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LOUIS NAPOLEON BONAPART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GIUSEPPE MAZZIN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EMILE ZOLA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VICTOR IMMANUEL I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ic Facial Hai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2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PETER STOLYP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20484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 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PREDESTINATI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A devout Lutheran, this Swedish leader sought to gain control of the Baltic grain trad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POGROM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the LATERAN PACT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3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4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MOSES MENDELSSOH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igion Potpourri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6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ECUMENICAL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S Gothic"/>
              </a:rPr>
              <a:t>Final Jeopardy</a:t>
            </a:r>
            <a:endParaRPr b="0" lang="en-US" sz="60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0000" y="1447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ategory is …..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51040"/>
            <a:ext cx="592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eography</a:t>
            </a: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1" name=""/>
          <p:cNvSpPr/>
          <p:nvPr/>
        </p:nvSpPr>
        <p:spPr>
          <a:xfrm>
            <a:off x="1035000" y="422820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e your wagers please ….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229600" y="579132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9194"/>
                </a:moveTo>
                <a:lnTo>
                  <a:pt x="17806" y="16200"/>
                </a:lnTo>
                <a:lnTo>
                  <a:pt x="3794" y="232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3" name="Untitled:Jeopardy! Folder:Jeopardy Template:think.mp3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-29160" y="-108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401004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6" name=""/>
          <p:cNvSpPr/>
          <p:nvPr/>
        </p:nvSpPr>
        <p:spPr>
          <a:xfrm>
            <a:off x="746280" y="415296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7" name=""/>
          <p:cNvSpPr/>
          <p:nvPr/>
        </p:nvSpPr>
        <p:spPr>
          <a:xfrm>
            <a:off x="3946680" y="42670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342036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se two (2) straits connect the Black Sea to the Mediterranean Sea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001000" cy="24112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11" name=""/>
          <p:cNvSpPr/>
          <p:nvPr/>
        </p:nvSpPr>
        <p:spPr>
          <a:xfrm>
            <a:off x="7467480" y="57913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2" name=""/>
          <p:cNvSpPr/>
          <p:nvPr/>
        </p:nvSpPr>
        <p:spPr>
          <a:xfrm>
            <a:off x="7573680" y="60948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What is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What are</a:t>
            </a: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81532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6" name=""/>
          <p:cNvSpPr/>
          <p:nvPr/>
        </p:nvSpPr>
        <p:spPr>
          <a:xfrm>
            <a:off x="343080" y="281880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the Bosporous and Dardenelles?</a:t>
            </a:r>
            <a:endParaRPr b="0" lang="en-US" sz="8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 1648 Treaty of Westphalia––which ended the Thirty Years' War––added this religion to the 1555 settlement at Augsburg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shrewd businessman and brilliant general was on two occasions the leader of the Catholic force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19320" y="17366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Before suffering defeat at the 1620 Battle of White Mountain, he was the leader of the Protestant Un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ty Years’ Wa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He teaches physical education and Health at New Hartford Sr. High School in New Hartford, New York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e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2:58:12Z</dcterms:created>
  <dc:creator>System Administrator</dc:creator>
  <dc:description/>
  <dc:language>en-US</dc:language>
  <cp:lastModifiedBy>Danielle Walters</cp:lastModifiedBy>
  <cp:lastPrinted>2002-11-04T22:12:16Z</cp:lastPrinted>
  <dcterms:modified xsi:type="dcterms:W3CDTF">2005-04-30T00:20:17Z</dcterms:modified>
  <cp:revision>504</cp:revision>
  <dc:subject/>
  <dc:title>No Slide Title</dc:title>
</cp:coreProperties>
</file>